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672-EEE8-47F7-81B6-7CCD9681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683-572D-4096-A44E-B6E21C8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A90-E34B-4BBF-ABB9-3D1167A6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056-39F6-49B4-9050-BEBC858D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BBE-AC81-4619-BCF5-DF78D98E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8CDE-C2AF-47AC-AD1A-F16B8C4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1066-123E-472F-900F-C2C765D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83DE-3051-459C-A958-6708389A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5AE8-00C1-49F8-AE5A-E6E030AB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9D9-6D7D-417D-8596-0F030C2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6A7F-7C88-4C8B-A110-60552691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79D-8D78-45EB-89FE-671619F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D428-030F-4D87-8E89-B594781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BD4C-ED1A-44E7-8027-A68A771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70E-A804-4E07-BD15-0E82858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0F80-892A-4610-8BA6-BBE3C9DB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49FF-3EB8-4CCB-89BD-40E5A993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8CAB-73E3-4EBA-87FD-D5D0B1DF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F938-57A2-45A9-A1D2-3023D692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A6B4-CDA5-4773-84E2-95C04FD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5D25-B8BA-414E-B822-CED2185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B6A4-CA03-497E-961A-2E3B7D5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3C7-BED5-4300-978C-274A42D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07D9-E7CF-46B7-B7FB-12C337E2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1776-73C9-4773-B86C-284FE67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E74B-E9B8-4FBE-B263-1EF07B0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F544-8838-4AC5-B467-BC39D59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545E-9D4A-48F2-94CB-8B4D43D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107C-0671-4551-96D3-D845CE57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2970-E7F1-453F-8A48-E53BBEE1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802D-F5CB-4AB6-BC38-47A53FE5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3910-8F29-48D7-A4EF-6DF7575E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E94A-2263-4ED7-AB3A-24C67D3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094-052A-4CFF-B31B-83463E2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B4BB-92BF-4A69-923B-2472AFAD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785D-0576-4F56-BDF3-AEE7D33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15C1-723D-4A0E-818B-CC0DDE59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1B7D-88BB-42D8-BA13-5306605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9C889-68A4-42D8-BE35-6711731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823F-2166-4F70-BD2D-4242A29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BC34-5B29-4593-B4C4-DAEC237E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2980C-D776-40A1-B628-1327E1B4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CC4E-180F-429B-AAED-CC75E510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FF7C0-B5E3-4E6D-B4C3-AAD45622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6A1-5FF8-4B21-B77D-04DA17CF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FF3A-E84C-4F69-B2C1-5DFD036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46C0-BA79-4F36-B9D6-0BD9781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A29D-D6A8-4F57-A259-BB711B6B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2CED1-A6CC-408E-860B-0028696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CA1D-BC92-4C7A-9DF9-6D6FF5D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32B2-7584-4784-A8BA-4A0717C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BF0E-36D1-41AA-88C8-9A05E01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874C-B4E5-41B3-B927-7AC3690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C96AC-3B77-49BE-A505-EA2221D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8CC9-1E80-4FDE-90AC-F7FD3255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AB0-69FB-42C7-9375-95C860C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D1BAB-5EF8-44A0-943A-86140ED3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FB0EF-2641-4A8A-8974-5777FAB8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2F4D-3299-431B-835C-59DE75E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F01D-A4F1-47D8-84EB-D57CB920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21E2-FBCD-4281-B642-4CF1EF32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74FD-10CA-4A61-AE47-7890B04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C586-E964-458F-A66E-24330A2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87323-4495-4E65-9D0E-AF746342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A2728-E142-40BF-ABE3-C85C43A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8AC3-FD64-404D-9D1F-D840AC9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738-5B52-4B69-BA06-FF15C93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F031-B5EB-4CD4-8BC3-BA7EEFD3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C287-6F31-4FF7-989E-68C19E97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4EB7-69C8-4CFB-8897-515C317B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75F-2980-4D46-934C-ECE68A4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B06-210D-4174-93F0-F257DC2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F59-D173-4145-999D-5C1CCFB59A7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A272-D3BB-44F8-889D-22EE4408EE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833-4505-482C-BD35-EC91B28D1A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E949-7F6B-493E-8D94-409B9E854E0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82F-D6BA-454B-86EA-26AB8D647FA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891-B013-4605-8B02-FED7481E186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3" descr=""/>
          <p:cNvPicPr/>
          <p:nvPr/>
        </p:nvPicPr>
        <p:blipFill>
          <a:blip r:embed="rId3"/>
          <a:stretch/>
        </p:blipFill>
        <p:spPr>
          <a:xfrm>
            <a:off x="219240" y="2468520"/>
            <a:ext cx="7437240" cy="1305000"/>
          </a:xfrm>
          <a:prstGeom prst="rect">
            <a:avLst/>
          </a:prstGeom>
          <a:ln w="0">
            <a:noFill/>
          </a:ln>
        </p:spPr>
      </p:pic>
      <p:sp>
        <p:nvSpPr>
          <p:cNvPr id="256" name="TextovéPole 8"/>
          <p:cNvSpPr/>
          <p:nvPr/>
        </p:nvSpPr>
        <p:spPr>
          <a:xfrm>
            <a:off x="3571920" y="435780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pracoval: VELČOVSKÝ Pa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ovéPole 7"/>
          <p:cNvSpPr/>
          <p:nvPr/>
        </p:nvSpPr>
        <p:spPr>
          <a:xfrm>
            <a:off x="4000680" y="514368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dmět: Ročníkový proje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ovéPole 8"/>
          <p:cNvSpPr/>
          <p:nvPr/>
        </p:nvSpPr>
        <p:spPr>
          <a:xfrm>
            <a:off x="3786120" y="471492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doucí práce: Bílek Ondř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97" name="TextovéPole 4"/>
          <p:cNvSpPr/>
          <p:nvPr/>
        </p:nvSpPr>
        <p:spPr>
          <a:xfrm>
            <a:off x="500040" y="2714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HYDROSTATICK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bdélník 6"/>
          <p:cNvSpPr/>
          <p:nvPr/>
        </p:nvSpPr>
        <p:spPr>
          <a:xfrm>
            <a:off x="285840" y="3143160"/>
            <a:ext cx="1785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ístová, plunžrová, membránová, zubová, lamelová, vřetenová, rotační píst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D:\výuka\diplomka\podklady\Gear_pump_exploded_cs.png"/>
          <p:cNvPicPr/>
          <p:nvPr/>
        </p:nvPicPr>
        <p:blipFill>
          <a:blip r:embed="rId4"/>
          <a:stretch/>
        </p:blipFill>
        <p:spPr>
          <a:xfrm>
            <a:off x="3357720" y="2857680"/>
            <a:ext cx="3382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302" name="TextovéPole 4"/>
          <p:cNvSpPr/>
          <p:nvPr/>
        </p:nvSpPr>
        <p:spPr>
          <a:xfrm>
            <a:off x="500040" y="2714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HYDRODINAMICK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4"/>
          <a:stretch/>
        </p:blipFill>
        <p:spPr>
          <a:xfrm>
            <a:off x="4714920" y="2143080"/>
            <a:ext cx="2482920" cy="3714840"/>
          </a:xfrm>
          <a:prstGeom prst="rect">
            <a:avLst/>
          </a:prstGeom>
          <a:ln w="0">
            <a:noFill/>
          </a:ln>
        </p:spPr>
      </p:pic>
      <p:sp>
        <p:nvSpPr>
          <p:cNvPr id="304" name="TextovéPole 6"/>
          <p:cNvSpPr/>
          <p:nvPr/>
        </p:nvSpPr>
        <p:spPr>
          <a:xfrm>
            <a:off x="285840" y="3143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xiální, radiální, diagoná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5"/>
          <a:stretch/>
        </p:blipFill>
        <p:spPr>
          <a:xfrm>
            <a:off x="1285920" y="3571920"/>
            <a:ext cx="31813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TextovéPole 4"/>
          <p:cNvSpPr/>
          <p:nvPr/>
        </p:nvSpPr>
        <p:spPr>
          <a:xfrm>
            <a:off x="714240" y="350028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lepši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edukce hmot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nížit výrob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menšit půdor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4"/>
          <a:stretch/>
        </p:blipFill>
        <p:spPr>
          <a:xfrm>
            <a:off x="4214880" y="3357720"/>
            <a:ext cx="2928960" cy="297180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6"/>
          <p:cNvSpPr/>
          <p:nvPr/>
        </p:nvSpPr>
        <p:spPr>
          <a:xfrm>
            <a:off x="386280" y="278604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stupem je sestava  filtrační stanice a dopravní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12" name="Rectangle 3" descr=""/>
          <p:cNvPicPr/>
          <p:nvPr/>
        </p:nvPicPr>
        <p:blipFill>
          <a:blip r:embed="rId3"/>
          <a:stretch/>
        </p:blipFill>
        <p:spPr>
          <a:xfrm>
            <a:off x="49320" y="1590840"/>
            <a:ext cx="5954760" cy="9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Documents and Settings\javi\Plocha\Bez názvu.JPG"/>
          <p:cNvPicPr/>
          <p:nvPr/>
        </p:nvPicPr>
        <p:blipFill>
          <a:blip r:embed="rId4"/>
          <a:stretch/>
        </p:blipFill>
        <p:spPr>
          <a:xfrm>
            <a:off x="1143000" y="2286000"/>
            <a:ext cx="5681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3" descr=""/>
          <p:cNvPicPr/>
          <p:nvPr/>
        </p:nvPicPr>
        <p:blipFill>
          <a:blip r:embed="rId3"/>
          <a:stretch/>
        </p:blipFill>
        <p:spPr>
          <a:xfrm>
            <a:off x="85680" y="1968480"/>
            <a:ext cx="2279520" cy="1397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4"/>
          <a:stretch/>
        </p:blipFill>
        <p:spPr>
          <a:xfrm>
            <a:off x="2643120" y="1285920"/>
            <a:ext cx="5915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18" name="Rectangle 3" descr=""/>
          <p:cNvPicPr/>
          <p:nvPr/>
        </p:nvPicPr>
        <p:blipFill>
          <a:blip r:embed="rId3"/>
          <a:stretch/>
        </p:blipFill>
        <p:spPr>
          <a:xfrm>
            <a:off x="49320" y="1590840"/>
            <a:ext cx="7100640" cy="914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Documents and Settings\javi\Plocha\Bez názvudh.JPG"/>
          <p:cNvPicPr/>
          <p:nvPr/>
        </p:nvPicPr>
        <p:blipFill>
          <a:blip r:embed="rId4"/>
          <a:stretch/>
        </p:blipFill>
        <p:spPr>
          <a:xfrm>
            <a:off x="714240" y="2428920"/>
            <a:ext cx="597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3" descr=""/>
          <p:cNvPicPr/>
          <p:nvPr/>
        </p:nvPicPr>
        <p:blipFill>
          <a:blip r:embed="rId3"/>
          <a:stretch/>
        </p:blipFill>
        <p:spPr>
          <a:xfrm>
            <a:off x="49320" y="1590840"/>
            <a:ext cx="710064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4"/>
          <a:stretch/>
        </p:blipFill>
        <p:spPr>
          <a:xfrm>
            <a:off x="1428840" y="2571840"/>
            <a:ext cx="51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3" descr=""/>
          <p:cNvPicPr/>
          <p:nvPr/>
        </p:nvPicPr>
        <p:blipFill>
          <a:blip r:embed="rId3"/>
          <a:stretch/>
        </p:blipFill>
        <p:spPr>
          <a:xfrm>
            <a:off x="334800" y="2017800"/>
            <a:ext cx="7102800" cy="9144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428760" y="2707200"/>
            <a:ext cx="664344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Kocman, Karel.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peciální technologie. obrábění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Brno : Vysoké učení technické y Brně, Fakulta strojního inženýrství, 200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Kocman, Karel a Prokop, Jaroslav.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ologie Obrábění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Brno : Vysoké učení technické, Fakulta strojního inženýrství,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ukovics, Imrich.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Konstrukční materiály a technologie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Brno : VUT, 1992. ISBN 80-214-0399-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aňas, Miroslav, Staněk, Michal a Maňas, David.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ýrobní stroje a zařízení I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Zlín : Univezita Tomáše Bati ve Zlíně, 20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ukovics, Imrich, Sýkorová, Libuše a Volek, František.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Části a mechanizmy strojů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Brno : Vysoké učení technické.Technologická fakulta ve Zlíně, 2000. ISBN 080-214-1566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6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analík, Jaroslav.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trubní hydraulická a pneumatická doprava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srava : VŠB TU, 1998. ISBN 80-7078-595-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7. —.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ydrodynamika a hydrodynamické stroje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strava : VŠB TU, 200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328" name="TextovéPole 6"/>
          <p:cNvSpPr/>
          <p:nvPr/>
        </p:nvSpPr>
        <p:spPr>
          <a:xfrm>
            <a:off x="285840" y="278604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0070c0"/>
                </a:solidFill>
                <a:uFillTx/>
                <a:latin typeface="Arial"/>
              </a:rPr>
              <a:t>javvi.webzdarm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ekce výuka, diplomová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C:\Documents and Settings\javi\Plocha\hsss.JPG"/>
          <p:cNvPicPr/>
          <p:nvPr/>
        </p:nvPicPr>
        <p:blipFill>
          <a:blip r:embed="rId4"/>
          <a:stretch/>
        </p:blipFill>
        <p:spPr>
          <a:xfrm>
            <a:off x="1571760" y="4143240"/>
            <a:ext cx="4214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3" descr=""/>
          <p:cNvPicPr/>
          <p:nvPr/>
        </p:nvPicPr>
        <p:blipFill>
          <a:blip r:embed="rId3"/>
          <a:stretch/>
        </p:blipFill>
        <p:spPr>
          <a:xfrm>
            <a:off x="480960" y="3060720"/>
            <a:ext cx="71690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3" descr=""/>
          <p:cNvPicPr/>
          <p:nvPr/>
        </p:nvPicPr>
        <p:blipFill>
          <a:blip r:embed="rId3"/>
          <a:stretch/>
        </p:blipFill>
        <p:spPr>
          <a:xfrm>
            <a:off x="-165240" y="1805040"/>
            <a:ext cx="5956560" cy="914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2587680" y="2234520"/>
            <a:ext cx="33537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1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	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PRŮVODNÍ JEVY PROCESU OBRÁBĚNÍ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1.1	Řezné kapalin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1.3	Třís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2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	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FILTRACE ŘEZNÝCH KAPALI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2.1	Mechanické filt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2.2	Magnetické filt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2.3	Odstředivé filt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3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	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POHON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3.1	Elektromoto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3.2	Převod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4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	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ČERPADL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4.1	Hydrostatická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4.2	Hydrodynamická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5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	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DOPRAVNÍKY TŘÍSE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5.2	Článkový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5.3	Magnetický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5.4	Šnekový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6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	</a:t>
            </a: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ZÁSOBNÍKY KAPALI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6.1	Zásobník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6.2	Pomocná a ovládací zařízení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64" name="Obdélník 6"/>
          <p:cNvSpPr/>
          <p:nvPr/>
        </p:nvSpPr>
        <p:spPr>
          <a:xfrm>
            <a:off x="785880" y="25718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 Mechanické fil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4"/>
          <a:stretch/>
        </p:blipFill>
        <p:spPr>
          <a:xfrm>
            <a:off x="857160" y="4143240"/>
            <a:ext cx="1714680" cy="170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5"/>
          <a:stretch/>
        </p:blipFill>
        <p:spPr>
          <a:xfrm>
            <a:off x="3143160" y="4143240"/>
            <a:ext cx="2830680" cy="1752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6"/>
          <a:stretch/>
        </p:blipFill>
        <p:spPr>
          <a:xfrm>
            <a:off x="4071960" y="1928880"/>
            <a:ext cx="277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70" name="Obdélník 6"/>
          <p:cNvSpPr/>
          <p:nvPr/>
        </p:nvSpPr>
        <p:spPr>
          <a:xfrm>
            <a:off x="571680" y="28576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 Magnetické fil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4"/>
          <a:stretch/>
        </p:blipFill>
        <p:spPr>
          <a:xfrm>
            <a:off x="928800" y="4071960"/>
            <a:ext cx="2214360" cy="2054160"/>
          </a:xfrm>
          <a:prstGeom prst="rect">
            <a:avLst/>
          </a:prstGeom>
          <a:ln w="0">
            <a:noFill/>
          </a:ln>
        </p:spPr>
      </p:pic>
      <p:sp>
        <p:nvSpPr>
          <p:cNvPr id="272" name="Obdélník 8"/>
          <p:cNvSpPr/>
          <p:nvPr/>
        </p:nvSpPr>
        <p:spPr>
          <a:xfrm>
            <a:off x="586800" y="342900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ůtokové nebo rot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C:\Documents and Settings\javi\Plocha\dgdfb.JPG"/>
          <p:cNvPicPr/>
          <p:nvPr/>
        </p:nvPicPr>
        <p:blipFill>
          <a:blip r:embed="rId5"/>
          <a:stretch/>
        </p:blipFill>
        <p:spPr>
          <a:xfrm>
            <a:off x="3857760" y="2714760"/>
            <a:ext cx="3286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76" name="Obdélník 6"/>
          <p:cNvSpPr/>
          <p:nvPr/>
        </p:nvSpPr>
        <p:spPr>
          <a:xfrm>
            <a:off x="285840" y="250020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hon dopravní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3000240" y="3143160"/>
            <a:ext cx="4143600" cy="2021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5"/>
          <a:stretch/>
        </p:blipFill>
        <p:spPr>
          <a:xfrm>
            <a:off x="214200" y="3143160"/>
            <a:ext cx="249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81" name="Obdélník 6"/>
          <p:cNvSpPr/>
          <p:nvPr/>
        </p:nvSpPr>
        <p:spPr>
          <a:xfrm>
            <a:off x="357120" y="26431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 Magnet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javi\Plocha\gfg.JPG"/>
          <p:cNvPicPr/>
          <p:nvPr/>
        </p:nvPicPr>
        <p:blipFill>
          <a:blip r:embed="rId4"/>
          <a:stretch/>
        </p:blipFill>
        <p:spPr>
          <a:xfrm>
            <a:off x="928800" y="3214800"/>
            <a:ext cx="3679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85" name="Obdélník 6"/>
          <p:cNvSpPr/>
          <p:nvPr/>
        </p:nvSpPr>
        <p:spPr>
          <a:xfrm>
            <a:off x="357120" y="26431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 Šnekov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4"/>
          <a:stretch/>
        </p:blipFill>
        <p:spPr>
          <a:xfrm>
            <a:off x="1214280" y="3571920"/>
            <a:ext cx="4442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88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6"/>
          <p:cNvSpPr/>
          <p:nvPr/>
        </p:nvSpPr>
        <p:spPr>
          <a:xfrm>
            <a:off x="357120" y="26431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0000"/>
                <a:tab algn="r" pos="5573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 Článkov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4"/>
          <a:stretch/>
        </p:blipFill>
        <p:spPr>
          <a:xfrm>
            <a:off x="357120" y="3571920"/>
            <a:ext cx="2228760" cy="2257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5"/>
          <a:stretch/>
        </p:blipFill>
        <p:spPr>
          <a:xfrm>
            <a:off x="2857680" y="2571840"/>
            <a:ext cx="51433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D:\výuka\NT\videa\62.png"/>
          <p:cNvPicPr/>
          <p:nvPr/>
        </p:nvPicPr>
        <p:blipFill>
          <a:blip r:embed="rId2"/>
          <a:stretch/>
        </p:blipFill>
        <p:spPr>
          <a:xfrm>
            <a:off x="642960" y="142920"/>
            <a:ext cx="5000760" cy="118440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3" descr=""/>
          <p:cNvPicPr/>
          <p:nvPr/>
        </p:nvPicPr>
        <p:blipFill>
          <a:blip r:embed="rId3"/>
          <a:stretch/>
        </p:blipFill>
        <p:spPr>
          <a:xfrm>
            <a:off x="49320" y="2017800"/>
            <a:ext cx="710064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4"/>
          <a:stretch/>
        </p:blipFill>
        <p:spPr>
          <a:xfrm>
            <a:off x="1357200" y="2857680"/>
            <a:ext cx="4402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6:39:29Z</dcterms:created>
  <dc:creator>javvi</dc:creator>
  <dc:description/>
  <dc:language>en-US</dc:language>
  <cp:lastModifiedBy>javvi</cp:lastModifiedBy>
  <dcterms:modified xsi:type="dcterms:W3CDTF">2009-11-18T10:43:00Z</dcterms:modified>
  <cp:revision>59</cp:revision>
  <dc:subject/>
  <dc:title>Snímek 1</dc:title>
</cp:coreProperties>
</file>