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98E-44C5-42CB-8E79-C38D470F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F17-3FAB-40AD-8314-A8998E72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B15-A3A0-419A-BAC7-2AA365E3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4A4-1DF0-4056-A66C-91852F12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496-8DB9-4D6D-A3E6-6A29F69F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EF0-E349-4414-A859-E19D872B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F47-4A93-4C84-9430-41A8C98B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083-31E0-4F48-9ACA-6A048F0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07F-24EA-48DF-A1BC-F496B601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AC2-F80F-4FBC-8C22-DFC856DE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B85-E17E-4070-B946-8750ECA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C17-0C26-47FE-8B4A-03088251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A4D-486C-441A-A936-D2D1396EE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nim.wm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klika.wmv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ses6-001.dwf" TargetMode="External"/><Relationship Id="rId2" Type="http://schemas.openxmlformats.org/officeDocument/2006/relationships/hyperlink" Target="file:///ses6-001.dw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yužití programu Inventor pro e-learningovou výuku předmětu Technické kres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71600" y="4869000"/>
            <a:ext cx="507204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vel Velčov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54560" y="549360"/>
            <a:ext cx="56894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dání výkres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48180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dání výkres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26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dání výkres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9120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pora výu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48974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pora výu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908000" y="2133720"/>
            <a:ext cx="504036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sledky Bakalářské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Autodesk inventoru při tvorbě ani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formátu D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á databáze 2D i 3D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learningové texty ve formátu webových stránek uloženy na školním serv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51640" y="429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íle bakalářské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využití Autodesk Inventoru při výuce Technického kres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vhodných e-learningových textů pro výuku Technického kreslení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tabáze modelů vhodných pro zadávání výkresů v předmětu Technické kres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2349360"/>
            <a:ext cx="78487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ktronické texty koncipované jako webov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raz na využítí 3D mod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trojrozměrných animací jako podpora     vý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765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át elektronických tex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hled stá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260280"/>
          <a:ext cx="8229600" cy="6392880"/>
        </p:xfrm>
        <a:graphic>
          <a:graphicData uri="http://schemas.openxmlformats.org/drawingml/2006/table">
            <a:tbl>
              <a:tblPr/>
              <a:tblGrid>
                <a:gridCol w="3795840"/>
                <a:gridCol w="264960"/>
                <a:gridCol w="4168800"/>
              </a:tblGrid>
              <a:tr h="3070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vodní strán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ání výkres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pora výu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voúhlé promít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voúhlé promít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 modelů ve formátech jpg a dw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mace promítání, vzorová řeš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plňování průmě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plňování průmě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zadání ve formátech jpg a dw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mace promítání, vzorová řeš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zy a průře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zy a průře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odelů ve formátech jpg a dw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mace promítání, rozdí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ótování jakost povrchu a tole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ótování jakost povrchu a tole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 modelů ve formátech jpg a dw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sády kótování, volba tolerance a oprac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roubové sp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roubové sp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modelů šroubových spoj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y a kreslení šroubu, matic a podlož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ří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ří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estav s hříde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orové řeš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tava s deta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tava s deta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D model sestavy, animace sesta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orové řeš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dání výkres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38360" y="1628640"/>
          <a:ext cx="766584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628640"/>
                    <a:ext cx="766584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kaz náh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5691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dkaz </a:t>
            </a:r>
            <a:r>
              <a:rPr b="0" lang="cs-CZ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w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19308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adání výkres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91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9:20:20Z</dcterms:created>
  <dc:creator>susa</dc:creator>
  <dc:description/>
  <dc:language>en-US</dc:language>
  <cp:lastModifiedBy>javvi</cp:lastModifiedBy>
  <dcterms:modified xsi:type="dcterms:W3CDTF">2008-06-19T20:44:14Z</dcterms:modified>
  <cp:revision>22</cp:revision>
  <dc:subject/>
  <dc:title>Využití programu Inventor pro e-learningovou výuku předmětu Technické kreslení</dc:title>
</cp:coreProperties>
</file>